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8A28-6F4B-443D-8FCC-7600DA20D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C666-C504-42FD-A9C2-F0ED2E15B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2-</a:t>
            </a:r>
            <a:fld id="{E3E0ACF2-303D-4594-89A6-B8CEA3BABF85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cing Decisions, Product Profitability Decisions, and Cost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Influences on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85640" indent="-485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three major influences on pricing decision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 pricing problems through the eyes of the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about prices as part of the total marketing package and strategic positioning of the company and its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s must cover all costs in the long-ru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o know what your costs a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2 - 4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and Pricing for the Long Ru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rate product cost inform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industries, competitive market forces set prices (oil &amp; gas, min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wo Alternative Long-Run Pric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-ba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do our customers want and what are our competitors doing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ased (or cost-plu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price should we charge to cover our costs and earn a prof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5 - 4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Costing for Target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price is the estimated price for a product or service that potential customers will be willing to pay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sed on an understanding of customers’ perceived value for a product and competitors’ response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cost per unit is the estimated long-run cost per unit of product or service that, when sold at the target price, enables the company to achieve its target income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4 Steps in Target Pricing and Targe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velop a product that satisfies a customer ne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 target price based on customers’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rive a targe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 value engineering to achieve targe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8 - 4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336"/>
                </a:lnTo>
                <a:lnTo>
                  <a:pt x="2592" y="192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Incurrence and Locked-I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221680" cy="16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incurrence occurs when a resource is sacrificed or used 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cked-in (or designed-in) costs are costs that have not yet been incurred but are committed to be sp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171960"/>
            <a:ext cx="0" cy="2057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5229360"/>
            <a:ext cx="53337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3247920"/>
            <a:ext cx="1600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mulativ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er uni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5305320"/>
            <a:ext cx="6248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R&amp;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rketing,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stribution &amp;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esign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1104"/>
                </a:lnTo>
                <a:lnTo>
                  <a:pt x="2592" y="384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0120" y="53038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Value-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hain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294336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cked-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44672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incurre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390800" y="5305320"/>
            <a:ext cx="152280" cy="838440"/>
          </a:xfrm>
          <a:custGeom>
            <a:avLst/>
            <a:gdLst>
              <a:gd name="textAreaLeft" fmla="*/ 96840 w 152280"/>
              <a:gd name="textAreaRight" fmla="*/ 1522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0 - 46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Plus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establish prices using either a market-based or cost-based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lus pricing begins with some form of product or service cost and adds on an appropriate mark-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5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9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$483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1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  $540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ll costs  $720.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6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st-Plus Target Rate of Return on Invest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approach to determining the markup % is to consider the desired rate of return on the organization’s invested capit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vested capital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96,0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rate of return on investmen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          18%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7,28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tal expected unit sales of produc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 per uni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 / 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5334120"/>
            <a:ext cx="9067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bas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sell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720.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er unit   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ice $806.4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580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6428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3733920"/>
            <a:ext cx="13716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fe Cycle Product Budgeting an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life cycle spans the time from initial R&amp;D to the time at which support from the customers is withdra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Budg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 revenues and costs over the life cycle of the product or servi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and accumulate costs over the life cycle of th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adle-to-grave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mb-to-tomb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9 - 4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46:26Z</dcterms:created>
  <dc:creator>User</dc:creator>
  <dc:description/>
  <dc:language>en-US</dc:language>
  <cp:lastModifiedBy>John Moore</cp:lastModifiedBy>
  <cp:lastPrinted>1999-06-04T00:42:38Z</cp:lastPrinted>
  <dcterms:modified xsi:type="dcterms:W3CDTF">2003-03-22T13:17:13Z</dcterms:modified>
  <cp:revision>12</cp:revision>
  <dc:subject/>
  <dc:title>No Slide Title</dc:title>
</cp:coreProperties>
</file>